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49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23.png" ContentType="image/png"/>
  <Override PartName="/ppt/media/image55.jpeg" ContentType="image/jpeg"/>
  <Override PartName="/ppt/media/image13.jpeg" ContentType="image/jpeg"/>
  <Override PartName="/ppt/media/image4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36.png" ContentType="image/png"/>
  <Override PartName="/ppt/media/image40.png" ContentType="image/png"/>
  <Override PartName="/ppt/media/image42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50.jpeg" ContentType="image/jpeg"/>
  <Override PartName="/ppt/media/image47.jpeg" ContentType="image/jpeg"/>
  <Override PartName="/ppt/media/image52.jpeg" ContentType="image/jpeg"/>
  <Override PartName="/ppt/media/image56.jpeg" ContentType="image/jpeg"/>
  <Override PartName="/ppt/media/image33.png" ContentType="image/png"/>
  <Override PartName="/ppt/media/image41.png" ContentType="image/png"/>
  <Override PartName="/ppt/media/image48.jpeg" ContentType="image/jpeg"/>
  <Override PartName="/ppt/media/image53.jpeg" ContentType="image/jpeg"/>
  <Override PartName="/ppt/media/image51.png" ContentType="image/png"/>
  <Override PartName="/ppt/media/image54.jpeg" ContentType="image/jpeg"/>
  <Override PartName="/ppt/media/image31.jpeg" ContentType="image/jpeg"/>
  <Override PartName="/ppt/media/image10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895A-4446-400D-B37F-8991D0BF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E226-6A98-4B49-B530-2339B68C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A1CD-6025-4DB0-B5F2-B73C64E5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0B2-8A34-4A74-9DE8-318572FE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23A5-7744-40C5-A8F3-A5ED51BC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9ED1-23B8-453B-BDF2-608EC84C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1BDC-6EC6-4007-9013-1AE0DA7E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42F8-619B-4F5F-B27F-F2856E04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74C-6CFD-4143-8B27-F861282C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22E0-C804-4843-83A1-65736282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B568-2F2B-4CB8-ABDF-2A78E6DF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C1C-0C2D-4376-A540-F93EB75D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5FDE-3315-446F-AF0C-563F1F1742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integrahometheater.com/main_page.cfm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request.com/default.asp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lcorn.com/index.html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alesis.com/index.php" TargetMode="External"/><Relationship Id="rId4" Type="http://schemas.openxmlformats.org/officeDocument/2006/relationships/image" Target="../media/image11.png"/><Relationship Id="rId5" Type="http://schemas.openxmlformats.org/officeDocument/2006/relationships/hyperlink" Target="http://www.atlassound.com/index.cfm" TargetMode="External"/><Relationship Id="rId6" Type="http://schemas.openxmlformats.org/officeDocument/2006/relationships/image" Target="../media/image12.png"/><Relationship Id="rId7" Type="http://schemas.openxmlformats.org/officeDocument/2006/relationships/hyperlink" Target="http://www.audiosource.net/2005/index.html" TargetMode="External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hyperlink" Target="http://www.bostonacoustics.com/default.aspx" TargetMode="External"/><Relationship Id="rId12" Type="http://schemas.openxmlformats.org/officeDocument/2006/relationships/image" Target="../media/image16.png"/><Relationship Id="rId13" Type="http://schemas.openxmlformats.org/officeDocument/2006/relationships/hyperlink" Target="http://www.channelvision.com/index" TargetMode="External"/><Relationship Id="rId14" Type="http://schemas.openxmlformats.org/officeDocument/2006/relationships/image" Target="../media/image17.jpeg"/><Relationship Id="rId15" Type="http://schemas.openxmlformats.org/officeDocument/2006/relationships/hyperlink" Target="mailto:jnelson@cedia.org?subject=CEDIA%20Member%20Concierge%20Service" TargetMode="External"/><Relationship Id="rId16" Type="http://schemas.openxmlformats.org/officeDocument/2006/relationships/image" Target="../media/image18.jpeg"/><Relationship Id="rId17" Type="http://schemas.openxmlformats.org/officeDocument/2006/relationships/hyperlink" Target="http://www.citrix.com/lang/English/home.asp" TargetMode="External"/><Relationship Id="rId18" Type="http://schemas.openxmlformats.org/officeDocument/2006/relationships/image" Target="../media/image19.png"/><Relationship Id="rId19" Type="http://schemas.openxmlformats.org/officeDocument/2006/relationships/hyperlink" Target="http://www.real-image.com/default.asp" TargetMode="External"/><Relationship Id="rId20" Type="http://schemas.openxmlformats.org/officeDocument/2006/relationships/image" Target="../media/image20.png"/><Relationship Id="rId21" Type="http://schemas.openxmlformats.org/officeDocument/2006/relationships/hyperlink" Target="http://www.rgb.com/en/" TargetMode="External"/><Relationship Id="rId22" Type="http://schemas.openxmlformats.org/officeDocument/2006/relationships/image" Target="../media/image21.png"/><Relationship Id="rId23" Type="http://schemas.openxmlformats.org/officeDocument/2006/relationships/image" Target="../media/image22.jpeg"/><Relationship Id="rId2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energy-speakers.com/v2/" TargetMode="External"/><Relationship Id="rId3" Type="http://schemas.openxmlformats.org/officeDocument/2006/relationships/image" Target="../media/image24.png"/><Relationship Id="rId4" Type="http://schemas.openxmlformats.org/officeDocument/2006/relationships/hyperlink" Target="http://www.electrovoice.com/index.php" TargetMode="External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hyperlink" Target="http://www.monacor.com/int/en/gesamtprogramm.php?spr=EN&amp;brand=MI" TargetMode="External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jpeg"/><Relationship Id="rId13" Type="http://schemas.openxmlformats.org/officeDocument/2006/relationships/hyperlink" Target="http://www.numark.com/" TargetMode="External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jpeg"/><Relationship Id="rId17" Type="http://schemas.openxmlformats.org/officeDocument/2006/relationships/image" Target="../media/image35.jpe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hyperlink" Target="http://www.toachina.com.cn/index.asp" TargetMode="External"/><Relationship Id="rId5" Type="http://schemas.openxmlformats.org/officeDocument/2006/relationships/image" Target="../media/image39.jpeg"/><Relationship Id="rId6" Type="http://schemas.openxmlformats.org/officeDocument/2006/relationships/hyperlink" Target="http://www.visaton.com/en/index.html" TargetMode="External"/><Relationship Id="rId7" Type="http://schemas.openxmlformats.org/officeDocument/2006/relationships/image" Target="../media/image40.png"/><Relationship Id="rId8" Type="http://schemas.openxmlformats.org/officeDocument/2006/relationships/hyperlink" Target="http://www.vietapro.com/site/index.php" TargetMode="External"/><Relationship Id="rId9" Type="http://schemas.openxmlformats.org/officeDocument/2006/relationships/image" Target="../media/image41.png"/><Relationship Id="rId10" Type="http://schemas.openxmlformats.org/officeDocument/2006/relationships/hyperlink" Target="http://www.vodavi.com/default.asp" TargetMode="External"/><Relationship Id="rId11" Type="http://schemas.openxmlformats.org/officeDocument/2006/relationships/image" Target="../media/image42.png"/><Relationship Id="rId12" Type="http://schemas.openxmlformats.org/officeDocument/2006/relationships/image" Target="../media/image43.jpe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honic.com/index.php" TargetMode="External"/><Relationship Id="rId2" Type="http://schemas.openxmlformats.org/officeDocument/2006/relationships/image" Target="../media/image51.png"/><Relationship Id="rId3" Type="http://schemas.openxmlformats.org/officeDocument/2006/relationships/image" Target="../media/image5.png"/><Relationship Id="rId4" Type="http://schemas.openxmlformats.org/officeDocument/2006/relationships/image" Target="../media/image49.jpeg"/><Relationship Id="rId5" Type="http://schemas.openxmlformats.org/officeDocument/2006/relationships/hyperlink" Target="http://www.google.com.hk/url?sa=i&amp;source=images&amp;cd=&amp;cad=rja&amp;docid=wA7q4ASbcQ5eeM&amp;tbnid=RYAwUqlq6Ic1PM:&amp;ved=0CAgQjRwwAA&amp;url=http%3A%2F%2Fwww.nipic.com%2Fshow%2F3%2F82%2F9e9b0c95a8bee1ff.html&amp;ei=yeFPUeXvLYSXkQXozYD4Dw&amp;psig=AFQjCNFDlGh-XQKCPEkkOUAERbzyqv3UPw&amp;ust=1364276041782184" TargetMode="External"/><Relationship Id="rId6" Type="http://schemas.openxmlformats.org/officeDocument/2006/relationships/image" Target="../media/image52.jpeg"/><Relationship Id="rId7" Type="http://schemas.openxmlformats.org/officeDocument/2006/relationships/image" Target="../media/image49.jpeg"/><Relationship Id="rId8" Type="http://schemas.openxmlformats.org/officeDocument/2006/relationships/image" Target="../media/image53.jpeg"/><Relationship Id="rId9" Type="http://schemas.openxmlformats.org/officeDocument/2006/relationships/image" Target="../media/image49.jpeg"/><Relationship Id="rId10" Type="http://schemas.openxmlformats.org/officeDocument/2006/relationships/image" Target="../media/image48.jpeg"/><Relationship Id="rId11" Type="http://schemas.openxmlformats.org/officeDocument/2006/relationships/image" Target="../media/image48.jpeg"/><Relationship Id="rId12" Type="http://schemas.openxmlformats.org/officeDocument/2006/relationships/image" Target="../media/image48.jpeg"/><Relationship Id="rId13" Type="http://schemas.openxmlformats.org/officeDocument/2006/relationships/image" Target="../media/image48.jpeg"/><Relationship Id="rId14" Type="http://schemas.openxmlformats.org/officeDocument/2006/relationships/image" Target="../media/image48.jpeg"/><Relationship Id="rId15" Type="http://schemas.openxmlformats.org/officeDocument/2006/relationships/image" Target="../media/image49.jpeg"/><Relationship Id="rId16" Type="http://schemas.openxmlformats.org/officeDocument/2006/relationships/image" Target="../media/image49.jpe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2286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e prefer the following fonts and ic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2667240" cy="460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00240" y="3581280"/>
            <a:ext cx="2152440" cy="876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3962520"/>
            <a:ext cx="1428840" cy="257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47920" y="4876920"/>
            <a:ext cx="1704960" cy="552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1295280" y="99072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7467480" y="228600"/>
            <a:ext cx="1428840" cy="5905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3809880" y="5029200"/>
            <a:ext cx="3143520" cy="533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5029200" y="990720"/>
            <a:ext cx="1371600" cy="1110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蓝色快车"/>
          <p:cNvPicPr/>
          <p:nvPr/>
        </p:nvPicPr>
        <p:blipFill>
          <a:blip r:embed="rId11"/>
          <a:stretch/>
        </p:blipFill>
        <p:spPr>
          <a:xfrm>
            <a:off x="5029200" y="2590920"/>
            <a:ext cx="1428840" cy="609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289548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ive Company LOGO_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533520"/>
            <a:ext cx="1171800" cy="1028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581120"/>
            <a:ext cx="1428840" cy="933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AtlasSound Lo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835360"/>
            <a:ext cx="1981080" cy="74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3943440"/>
            <a:ext cx="2028960" cy="1238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2133720" y="1600200"/>
            <a:ext cx="3352680" cy="880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3533760" y="4229280"/>
            <a:ext cx="1876320" cy="64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971800" y="5486400"/>
            <a:ext cx="1228680" cy="581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Channel Vision Technology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715000" y="1752480"/>
            <a:ext cx="3200400" cy="457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477120" y="2819520"/>
            <a:ext cx="1904760" cy="1885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Citrix Logo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105680" y="5092560"/>
            <a:ext cx="1504800" cy="1003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Real Image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352680" y="2895480"/>
            <a:ext cx="1981440" cy="99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04920" y="5562720"/>
            <a:ext cx="2314440" cy="555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3"/>
          <a:stretch/>
        </p:blipFill>
        <p:spPr>
          <a:xfrm>
            <a:off x="5029200" y="5410080"/>
            <a:ext cx="1666800" cy="64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289548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ive Company LOGO_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934320" y="2590920"/>
            <a:ext cx="213336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990720"/>
            <a:ext cx="1828800" cy="457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05320" y="914400"/>
            <a:ext cx="2743200" cy="650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logo: Official ADT UK Security Company for Home and Business Security Services"/>
          <p:cNvPicPr/>
          <p:nvPr/>
        </p:nvPicPr>
        <p:blipFill>
          <a:blip r:embed="rId6"/>
          <a:stretch/>
        </p:blipFill>
        <p:spPr>
          <a:xfrm>
            <a:off x="1143000" y="2590920"/>
            <a:ext cx="838080" cy="614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Kaleidescape Logotype"/>
          <p:cNvPicPr/>
          <p:nvPr/>
        </p:nvPicPr>
        <p:blipFill>
          <a:blip r:embed="rId7"/>
          <a:stretch/>
        </p:blipFill>
        <p:spPr>
          <a:xfrm>
            <a:off x="762120" y="1905120"/>
            <a:ext cx="1657080" cy="266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3429000" y="1828800"/>
            <a:ext cx="2762280" cy="533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933480" y="327672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6981840" y="990720"/>
            <a:ext cx="1933560" cy="371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6172200" y="5334120"/>
            <a:ext cx="2971800" cy="726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Numark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315200" y="1752480"/>
            <a:ext cx="1104840" cy="457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Salzbrenner-Stagetec Mediagroup Logo"/>
          <p:cNvPicPr/>
          <p:nvPr/>
        </p:nvPicPr>
        <p:blipFill>
          <a:blip r:embed="rId15"/>
          <a:stretch/>
        </p:blipFill>
        <p:spPr>
          <a:xfrm>
            <a:off x="7315200" y="3657600"/>
            <a:ext cx="1285920" cy="1038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PROMATRIX SYSTEM"/>
          <p:cNvPicPr/>
          <p:nvPr/>
        </p:nvPicPr>
        <p:blipFill>
          <a:blip r:embed="rId16"/>
          <a:stretch/>
        </p:blipFill>
        <p:spPr>
          <a:xfrm>
            <a:off x="76320" y="4218120"/>
            <a:ext cx="5943600" cy="2563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Bogen Logo"/>
          <p:cNvPicPr/>
          <p:nvPr/>
        </p:nvPicPr>
        <p:blipFill>
          <a:blip r:embed="rId17"/>
          <a:stretch/>
        </p:blipFill>
        <p:spPr>
          <a:xfrm>
            <a:off x="2819520" y="2743200"/>
            <a:ext cx="4038480" cy="1074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0"/>
            <a:ext cx="289548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ive Company LOGO_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238880" y="533520"/>
            <a:ext cx="1524240" cy="1338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34120" y="2209680"/>
            <a:ext cx="3809880" cy="1333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Ge Security Pro"/>
          <p:cNvPicPr/>
          <p:nvPr/>
        </p:nvPicPr>
        <p:blipFill>
          <a:blip r:embed="rId3"/>
          <a:stretch/>
        </p:blipFill>
        <p:spPr>
          <a:xfrm>
            <a:off x="838080" y="2286000"/>
            <a:ext cx="1990800" cy="561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TOA Corporation">
            <a:hlinkClick r:id="rId4"/>
          </p:cNvPr>
          <p:cNvPicPr/>
          <p:nvPr/>
        </p:nvPicPr>
        <p:blipFill>
          <a:blip r:embed="rId5"/>
          <a:srcRect l="10676" t="11422" r="0" b="8586"/>
          <a:stretch/>
        </p:blipFill>
        <p:spPr>
          <a:xfrm>
            <a:off x="3581280" y="2666880"/>
            <a:ext cx="1276560" cy="533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Visaton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38080" y="3390840"/>
            <a:ext cx="1581120" cy="343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Vieta Professional Sound System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733920" y="3657600"/>
            <a:ext cx="1400040" cy="447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657600" y="4419720"/>
            <a:ext cx="1371600" cy="866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6629400" y="4495680"/>
            <a:ext cx="1428840" cy="800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3"/>
          <a:stretch/>
        </p:blipFill>
        <p:spPr>
          <a:xfrm>
            <a:off x="762120" y="5334120"/>
            <a:ext cx="1428480" cy="1038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4"/>
          <a:stretch/>
        </p:blipFill>
        <p:spPr>
          <a:xfrm>
            <a:off x="685800" y="4343400"/>
            <a:ext cx="1666800" cy="600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Superscope: Make Great Music"/>
          <p:cNvPicPr/>
          <p:nvPr/>
        </p:nvPicPr>
        <p:blipFill>
          <a:blip r:embed="rId15"/>
          <a:stretch/>
        </p:blipFill>
        <p:spPr>
          <a:xfrm>
            <a:off x="3429000" y="5638680"/>
            <a:ext cx="5095800" cy="628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0"/>
            <a:ext cx="289548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ive Company LOGO_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21168" t="11764" r="23263" b="14117"/>
          <a:stretch/>
        </p:blipFill>
        <p:spPr>
          <a:xfrm>
            <a:off x="431640" y="2793960"/>
            <a:ext cx="2159280" cy="2158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23816" t="14117" r="23263" b="15294"/>
          <a:stretch/>
        </p:blipFill>
        <p:spPr>
          <a:xfrm>
            <a:off x="457200" y="114300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rcRect l="23058" t="42400" r="21931" b="41657"/>
          <a:stretch/>
        </p:blipFill>
        <p:spPr>
          <a:xfrm>
            <a:off x="3657600" y="3276720"/>
            <a:ext cx="5181480" cy="1125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rcRect l="23816" t="17647" r="23263" b="15294"/>
          <a:stretch/>
        </p:blipFill>
        <p:spPr>
          <a:xfrm>
            <a:off x="469800" y="4546440"/>
            <a:ext cx="2273400" cy="2159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0"/>
            <a:ext cx="28954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 Design_v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Phonic Corpor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276960"/>
            <a:ext cx="3124080" cy="569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9020" t="60017" r="8012" b="13356"/>
          <a:stretch/>
        </p:blipFill>
        <p:spPr>
          <a:xfrm>
            <a:off x="6019920" y="6276960"/>
            <a:ext cx="3124080" cy="601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715000" y="4805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urity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rcRect l="35195" t="44561" r="23549" b="44646"/>
          <a:stretch/>
        </p:blipFill>
        <p:spPr>
          <a:xfrm>
            <a:off x="1371600" y="4533840"/>
            <a:ext cx="1981080" cy="389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95280" y="4876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urity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5"/>
          </p:cNvPr>
          <p:cNvPicPr/>
          <p:nvPr/>
        </p:nvPicPr>
        <p:blipFill>
          <a:blip r:embed="rId6"/>
          <a:srcRect l="0" t="84173" r="3402" b="0"/>
          <a:stretch/>
        </p:blipFill>
        <p:spPr>
          <a:xfrm>
            <a:off x="3149640" y="6332400"/>
            <a:ext cx="2870280" cy="449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rcRect l="36003" t="42400" r="21931" b="41657"/>
          <a:stretch/>
        </p:blipFill>
        <p:spPr>
          <a:xfrm>
            <a:off x="5181480" y="990720"/>
            <a:ext cx="3962520" cy="1125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rcRect l="2003" t="71336" r="401" b="7337"/>
          <a:stretch/>
        </p:blipFill>
        <p:spPr>
          <a:xfrm>
            <a:off x="2971800" y="5715000"/>
            <a:ext cx="3124080" cy="512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rcRect l="35195" t="44561" r="23549" b="44646"/>
          <a:stretch/>
        </p:blipFill>
        <p:spPr>
          <a:xfrm>
            <a:off x="1295280" y="2952720"/>
            <a:ext cx="2819520" cy="552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0"/>
            <a:ext cx="3809880" cy="1479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Further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1.Provide about 5 types of diffe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2.Before design the logo, please refer to the font 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GENESIS, PHONIC ,BUICK, ROTEL, etc ” below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3.Use  kinds of color  to design lo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0" y="76212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241776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274320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403848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86600" y="403848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0"/>
          <a:srcRect l="35022" t="24085" r="36962" b="41039"/>
          <a:stretch/>
        </p:blipFill>
        <p:spPr>
          <a:xfrm>
            <a:off x="3962520" y="990720"/>
            <a:ext cx="1143000" cy="1066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1"/>
          <a:srcRect l="35022" t="24085" r="36962" b="41039"/>
          <a:stretch/>
        </p:blipFill>
        <p:spPr>
          <a:xfrm>
            <a:off x="152280" y="2666880"/>
            <a:ext cx="1143000" cy="1067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2"/>
          <a:srcRect l="35022" t="24085" r="36962" b="41039"/>
          <a:stretch/>
        </p:blipFill>
        <p:spPr>
          <a:xfrm>
            <a:off x="152280" y="4191120"/>
            <a:ext cx="1143000" cy="1066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3"/>
          <a:srcRect l="35022" t="24085" r="36962" b="41039"/>
          <a:stretch/>
        </p:blipFill>
        <p:spPr>
          <a:xfrm>
            <a:off x="6553080" y="2209680"/>
            <a:ext cx="1143000" cy="1067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4"/>
          <a:srcRect l="35022" t="24085" r="36962" b="41039"/>
          <a:stretch/>
        </p:blipFill>
        <p:spPr>
          <a:xfrm>
            <a:off x="4572000" y="4191120"/>
            <a:ext cx="1143000" cy="1066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5"/>
          <a:srcRect l="35195" t="44561" r="23549" b="44646"/>
          <a:stretch/>
        </p:blipFill>
        <p:spPr>
          <a:xfrm>
            <a:off x="5715000" y="3276720"/>
            <a:ext cx="2819520" cy="552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6"/>
          <a:srcRect l="35195" t="44561" r="23549" b="44646"/>
          <a:stretch/>
        </p:blipFill>
        <p:spPr>
          <a:xfrm>
            <a:off x="5715000" y="4324320"/>
            <a:ext cx="281952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5029200" cy="1202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 Drawing for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gle Amp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 logos on the below equip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1" descr="功放副本.jpg"/>
          <p:cNvPicPr/>
          <p:nvPr/>
        </p:nvPicPr>
        <p:blipFill>
          <a:blip r:embed="rId1"/>
          <a:srcRect l="7711" t="2351" r="5150" b="2400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29400" cy="1620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 Drawing for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ltiple Ampl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 logos on the below equip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1" descr="主机_4台副本.jpg"/>
          <p:cNvPicPr/>
          <p:nvPr/>
        </p:nvPicPr>
        <p:blipFill>
          <a:blip r:embed="rId1"/>
          <a:srcRect l="5397" t="2352" r="7588" b="1226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5486400" cy="1620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 Drawing for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l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 logos on the below equip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" descr="音控_01副本.jpg"/>
          <p:cNvPicPr/>
          <p:nvPr/>
        </p:nvPicPr>
        <p:blipFill>
          <a:blip r:embed="rId1"/>
          <a:srcRect l="10447" t="4706" r="5189" b="2400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HD</cp:lastModifiedBy>
  <dcterms:modified xsi:type="dcterms:W3CDTF">2013-03-25T08:04:50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